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6D0-E30A-432A-9018-536CB28E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BF6-F074-44DC-B55B-EC42FC7E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6B0-E5E2-49DE-B974-508DC7C7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E6F-5BB5-4EEE-B63A-DCA34B03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AEE9-3074-469E-B10F-8AB3C0B8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57A-D1E0-45E4-B799-0DCA7596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C0D2-7613-4309-B162-6CA1A84F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EC59-D474-4D93-A0DB-31623010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8842-598E-4417-B913-4B3417D9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D762-413D-42CA-8384-A6AD2834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9A03-9BA8-4D87-8EDE-C2CF74BE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AB6-3002-4B49-91BC-F30C81DC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D423-1713-4F03-A99C-50EC1087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01C5-86BB-41EB-A5FF-97FCF44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E0BB-D3D0-483C-A9A1-E1822BA7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C0B5-A83D-4F64-81E7-C1D51262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A4F4-0281-44F9-8C6E-FD13DF4A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7D2-365F-4C42-A232-A15ED7BD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40F-C119-4CE7-8904-705C91A4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A53-0B07-42FD-8637-DC3E9E2A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24E-00D7-4940-88FA-A37537F8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94E-87A1-4B39-A41A-F5E359F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7F8-A69F-4696-B74A-48B6D159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4DF-7D8C-4B6A-9B7A-8A7A065A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B659-C9C3-46CF-9BF0-C9D579088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D64-08BF-495A-993C-B344A3207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ЗЕМЉИШТ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не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ЕМЉИШ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РЕКТНИ ЕФЕКТ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РЕКТНИ ЕФЕК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Значајан пут преношења проузроковач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порних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 спољ. средини ил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 у случају свеж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Чест пут преношења 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гијенск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2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ПРЕДМЕ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РУ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БИОЛОШКИ ПРОДУК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 контактних епидемиј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743200" y="2437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0481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2000" y="2133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епосредним путем (директни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352680"/>
            <a:ext cx="50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средним путем-загађеним предмети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индир.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1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ОСТЕПЕН ПОЧЕТ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2.   ДУГО ТРАЈАЊЕ епидемије и ПРОГРЕСИВАН 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ЦЕНТРИФУГАЛНО  шире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4.   Везаност за ЛОШЕ ХИГИЈЕНСКЕ усл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ОДСУСТВО ВЕЗАНОСТИ ЗА СЕЗОН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ОЈАВА КОНТАКТНОГ РЕ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 идеално средство за одржавање патогених микроорганиз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узроковачи заразних болести разређ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32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br>
              <a:rPr sz="3200"/>
            </a:br>
            <a:br>
              <a:rPr sz="3600"/>
            </a:b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1" lang="sr-C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директно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Резервоар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                               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Осетљива особа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I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индиректно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или непосредни конт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загађене ру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љуба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лни 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рођајни 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уј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2.      Капљ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3.      Трансплацентар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4.      Земљиштем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7440" y="2285640"/>
            <a:ext cx="34290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Н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1676520"/>
            <a:ext cx="2286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кол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трбушни 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ара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патитис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дизенте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цревни параз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 1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КСПЛОЗИВНО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РАЈАЊ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ЛИТИ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ЈАВА ВОДЕ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ДУЖЕНА ИНКУБАЦИЈ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МЕНА ОРГАНОЛЕПТИЧКИХ СВОЈСТАВА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? 2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ИСУСТВО ИНДИКАТОРА ФЕКАЛНОГ ЗАГАЂЕЊА И ЕВЕНТУАЛНО НАЛАЗ ПАТОГЕНОГ УЗРОЧ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ОДСУСТВО СЕЗОНСКИХ ВАРИЈ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9. ДЕМОГРАФСКО И СОЦИЈАЛНО ШАРЕНИЛО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 3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Е ГРУПЕ ЗДРАВИХ И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здравих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ив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оболелих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зитив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деална средина за опстанак микроорганизама и размножа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многих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РАЗН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ЗАРАЗНИ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- ХРА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им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е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садржи проузроковаче болести односно отровне супстанције различитог порек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екунд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таминациј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ком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ecff"/>
                </a:solidFill>
                <a:latin typeface="Times New Roman"/>
              </a:rPr>
              <a:t>НАМИРНИЦЕ ЕПИДЕМИОЛОШКИ ИНТЕРЕСАНТНИЈЕ ОД ОСТАЛИ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ЛЕКО И МЛЕЧНИ ПРОИЗВО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ЕСО И МЕСНЕ ПРЕРАЂЕВИН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ЈА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ВОЋЕ И ПОВРЋ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ЛАДНА ПРЕДЈ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Карактеристике </a:t>
            </a:r>
            <a:r>
              <a:rPr b="1" lang="sr-C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лиментарних</a:t>
            </a: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 епидемија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ИСОК МОРБИДИТ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РАТКО ТРАЈ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КРАЋЕНА ИНКУБ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ЕЗОНСКИ К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лиментар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7. КОНТРОЛНА ГРУПА ЗДРАВИХ И ОБОЛЕЛИХ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. 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представља повољну средину за микроорганиз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 значајну улогу за преношење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3152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Капљична јез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раш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 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апљична језг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тније Флигеове капи трансформишу се у капљична језгра (нуклеуси 1-10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 ВАЗДУ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ом се прено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микроорганизми и други биолошки агенс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физички аген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мијски аген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пидемије болести које се преносе ВАЗДУХОМ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чна језгр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аши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) сличне карактеристикама капљичн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ноге болести се истовремено преносе и КАПЉИЦАМА и ваздух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2. Масо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3. Висок морбидит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и преносилац који преноси инфективни агенс са заражене јединке или њених излучевина до осетљиве јединке, њене хране или непосредне окол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падају колу зглавкара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rthropo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ебан епидемиолошки значај имају представници класа инсеката (ваши, комарци, буве, стенице, муве) и паукова (крпељи и грињ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у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ар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рпељ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У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ношењу заразни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болести, </a:t>
            </a: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ВЕКТО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(припадају колу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зглавкара) имају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Биолошку, акт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Механичку, пас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В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ектори имај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4400" spc="-1" strike="noStrike" u="sng">
                <a:solidFill>
                  <a:srgbClr val="ffffff"/>
                </a:solidFill>
                <a:uFillTx/>
                <a:latin typeface="Arial"/>
              </a:rPr>
              <a:t>биолошку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улогу ако 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оузроковачи у њима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множавај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олазе кроз одређен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војну фаз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afe1ff"/>
                </a:solidFill>
                <a:latin typeface="Arial"/>
              </a:rPr>
              <a:t>Б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олести које прен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хематофагни вектори кој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имај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специфичну, биолош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улогу зову се:</a:t>
            </a:r>
            <a:r>
              <a:rPr b="1" i="1" lang="sr-CS" sz="3600" spc="-1" strike="noStrike">
                <a:solidFill>
                  <a:srgbClr val="afe1ff"/>
                </a:solidFill>
                <a:latin typeface="Arial"/>
              </a:rPr>
              <a:t>ТРАНСМИСИВ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3600" spc="-1" strike="noStrike">
                <a:solidFill>
                  <a:srgbClr val="afe1ff"/>
                </a:solidFill>
                <a:latin typeface="Arial"/>
              </a:rPr>
              <a:t>преносним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) ил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крвним, јер се узрочници ти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зараза налазе у кр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 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физички додир резервоара и здраве осо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значајан за преношење проузроковача осетљивих у спољашњ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МЕХАНИЧКА УЛОГ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деловима тел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вектора 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проласком кроз његов ГИТ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пренес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се проузроковачи заразн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болести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храну, предмет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ређе до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осетљив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особ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Механизам НЕ подразумева развој НИ размножавање узрочника 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вектор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аш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егавац и вашљиву повратну грозн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скључиви паразити ч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унутрашњој страни рубља, на тело прелазе ради крвног об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БУВ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куге и мишјег пегав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чешће се хране крвљу глодара и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човека прелазе у недостатку уобичајених домаћ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Комарц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ophel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малар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ulex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филаријазе и неке арбовирусе узрочнике менингоенцефалит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ed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жуте грознице и денг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hlebotomus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 преносиоци лајшманијазе и папатачи гроз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РПЕЉ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иоци проузроковача вирусних менингоенцефалитиса, већине пегавих грозница, лајмск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екторске заразне боле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нозе, за које је резервоар човек (пегавац, маларија, повратни вашљиви тифу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зоонозе, за које су резервоари животиње (туларемија, куга, вирусни менингоенцефалити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д неких обољења резервоари могу бити и животиње и (жута грозница, кала-аз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Карактеристика векторских антропозоо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нденција ка стварању ензоотичних жаришта ( хеморагичне грознице, крпељске менингоенцефалитисе, крпељске повратне грознице, лајшманијаз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ктори спољне средине утичу на епидемиолошку ситуацију преко свог деловања на вект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емски карактер, географска распрострањеност и сезонска учесталост зависе од механизама локалног преживљавања проузроковача у неповољним условима или поновног уношења у одговарајуће ендемско подруч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 условима погодним за векторе, односно, ако су у питању антропозоонозе, за њихове анималне резервоаре, векторске болести могу за кратко време да угрозе велики број љу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оцијално-економски услови који омогућавају или размножавање вектора или повећавају изложеност зарази и могућност уједа зглавк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КОНТАКТ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РЕК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гађених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љупц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(респираторне-грип, осипне грознице, инфективна мононуклео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лног ак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ида, сифилис, гонореј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рођајног канал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гонореја, сифилис, си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)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ујед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беснил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зрочниц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заразних болести са капљицама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лу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лигео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капљице) из резервоара доспевају у ва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угроженији-о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 су најближи резервоару (повећањем удаљености осетљиве особе од резервоара заразе смањује се могућност заражавањ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ЛИГЕОВА капљ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ода, беланчевине, минералне с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1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омет у ваздуху (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 зависи од величине и брз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начај у преношењу проузроковач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спољ. сред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једноставнији пут преношења заразн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се битно утицат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вентивним мера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на расејавање микроорганизама капљиц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ебан значај имају у пренасељеним градским условима (“болести цивилизаци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”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ccecff"/>
                </a:solidFill>
                <a:uFillTx/>
                <a:latin typeface="Times New Roman"/>
              </a:rPr>
              <a:t>Карактеристике капљичних епидемиј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агло настају, шире се брзином саобраћајних средст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асовност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велики број оболелих) и висок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лакоћа ширењ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-велики број особа изложен агенсу у густо насељеним подручј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-велики број субклиничких облика, мали број манифестно оболел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Циклич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езонски карактер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(у хладним месецима, груписање људи у затвореним просторија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екуларна цикличност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(у вези са природним прираштајем и стањем колективног имуните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морбили-сваке друге годи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варичела-сваких неколико г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инфлуенца-велики интервални тал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АНСПЛАЦЕНТА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реношење биолошког агенса са инфициране мајке на плод преко плацен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25% новорођенчади чије су мајке у прва три месеца имале рубелу развија се рубела конгенитални синд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0:24:22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